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735502-8FDD-449C-AC19-58CE20A0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D89DD1-8667-4EFE-8D09-F9C252704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rcRect l="12118" t="0" r="0" b="0"/>
          <a:stretch/>
        </p:blipFill>
        <p:spPr>
          <a:xfrm>
            <a:off x="0" y="-1260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0"/>
          <p:cNvSpPr/>
          <p:nvPr/>
        </p:nvSpPr>
        <p:spPr>
          <a:xfrm>
            <a:off x="82080" y="65570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rcRect l="12118" t="0" r="0" b="69234"/>
          <a:stretch/>
        </p:blipFill>
        <p:spPr>
          <a:xfrm>
            <a:off x="0" y="6632640"/>
            <a:ext cx="91440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draw marbles, and return each one after drawing it. Find each probabi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black and then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white and white and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the probabilities if you do not replace marb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black and then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white and white and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Bag with Five Marbles"/>
          <p:cNvPicPr/>
          <p:nvPr/>
        </p:nvPicPr>
        <p:blipFill>
          <a:blip r:embed="rId1"/>
          <a:stretch/>
        </p:blipFill>
        <p:spPr>
          <a:xfrm>
            <a:off x="7488360" y="2205000"/>
            <a:ext cx="1447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pou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andwich can be made with 3 different types of bread, 5 different meats, and 2 types of cheese. How many types of sandwiches can be made if each sandwich consists of one bread, one meat, and one che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duct ID code consists of 1 letter followed by 4 digits. How many different codes can there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ermut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Permutation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things where order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 from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ermut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Permutation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things where order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 from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from 5 pick 3 three in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from 10 pick 2 three in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k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r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{Alex, Beth, Chuck, Dan, Erica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ermut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ermut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ombination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things where order does not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two toppings for a 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from 5 chose 3 in any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k a group of 3 fr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{Sam, Ronald, Tabitha, Victo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421000"/>
          <a:ext cx="6372000" cy="3467160"/>
        </p:xfrm>
        <a:graphic>
          <a:graphicData uri="http://schemas.openxmlformats.org/drawingml/2006/table">
            <a:tbl>
              <a:tblPr/>
              <a:tblGrid>
                <a:gridCol w="1593000"/>
                <a:gridCol w="1593000"/>
                <a:gridCol w="1593000"/>
                <a:gridCol w="159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k a group of 3 fr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{Sam, Ronald, Tabitha, Victo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6000" y="2421000"/>
          <a:ext cx="6372000" cy="3467160"/>
        </p:xfrm>
        <a:graphic>
          <a:graphicData uri="http://schemas.openxmlformats.org/drawingml/2006/table">
            <a:tbl>
              <a:tblPr/>
              <a:tblGrid>
                <a:gridCol w="1593000"/>
                <a:gridCol w="1593000"/>
                <a:gridCol w="1593000"/>
                <a:gridCol w="159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R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S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S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VS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T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T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VR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R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S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S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S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SV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RV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V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T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T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T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RV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R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V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VT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V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T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Combination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electing things were order does not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icking two toppings for a 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16520" y="2766960"/>
            <a:ext cx="842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440000" y="3608280"/>
            <a:ext cx="42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646640" y="36766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ys to order r thing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draw marbles, and return each one after drawing it. Find each probabi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black and then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white and white and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Bag with Five Marbles"/>
          <p:cNvPicPr/>
          <p:nvPr/>
        </p:nvPicPr>
        <p:blipFill>
          <a:blip r:embed="rId1"/>
          <a:stretch/>
        </p:blipFill>
        <p:spPr>
          <a:xfrm>
            <a:off x="7261200" y="2205000"/>
            <a:ext cx="1882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utation of Combin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160" y="1700280"/>
            <a:ext cx="87199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the probabilities if you do not replace marb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black and then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white and white and whit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ag with Five Marbles"/>
          <p:cNvPicPr/>
          <p:nvPr/>
        </p:nvPicPr>
        <p:blipFill>
          <a:blip r:embed="rId1"/>
          <a:stretch/>
        </p:blipFill>
        <p:spPr>
          <a:xfrm>
            <a:off x="7261200" y="2205000"/>
            <a:ext cx="1882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letters A, B (1 time each). Write all the different possible orderings of the let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letters A, B, C (1 time each). Write all the different possible orderings of the let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letters A, B, C, D (1 time each) How many possible orderings are ther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int: Write out the possible orderings that start with A. There would be just as many orderings that start with B, or C, or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of the letters P, Q, R, S, write all the groups of 3 letters that you c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each letter at most 1 time (order does not matter: PQR is the same as PR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of the letters P, Q, R, S, write all the groups of 2 letters that you c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each letter at most 1 time (order does not matter: PQ is the same as Q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79280" y="3392640"/>
            <a:ext cx="87854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 permutations and combin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4" descr="MC900254364[1]"/>
          <p:cNvPicPr/>
          <p:nvPr/>
        </p:nvPicPr>
        <p:blipFill>
          <a:blip r:embed="rId1"/>
          <a:stretch/>
        </p:blipFill>
        <p:spPr>
          <a:xfrm>
            <a:off x="6084720" y="105264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492920" y="2023920"/>
            <a:ext cx="13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10-8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are putting together lunches. There are 3 drink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ilk, orange juice, apple ju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chose from, 2 types of sandwich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peanut butter, ha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2 desert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cookie, gummie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any different meals can you make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646440" y="1054080"/>
            <a:ext cx="1609920" cy="4969440"/>
            <a:chOff x="3646440" y="1054080"/>
            <a:chExt cx="1609920" cy="4969440"/>
          </a:xfrm>
        </p:grpSpPr>
        <p:sp>
          <p:nvSpPr>
            <p:cNvPr id="67" name=""/>
            <p:cNvSpPr/>
            <p:nvPr/>
          </p:nvSpPr>
          <p:spPr>
            <a:xfrm>
              <a:off x="3887640" y="105408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B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7640" y="196704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am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7640" y="288144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B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7640" y="379584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am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7640" y="471024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B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87640" y="5624640"/>
              <a:ext cx="136872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am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73" name=""/>
            <p:cNvCxnSpPr>
              <a:stCxn id="74" idx="3"/>
              <a:endCxn id="67" idx="1"/>
            </p:cNvCxnSpPr>
            <p:nvPr/>
          </p:nvCxnSpPr>
          <p:spPr>
            <a:xfrm flipV="1">
              <a:off x="3646440" y="1261800"/>
              <a:ext cx="232560" cy="52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74" idx="3"/>
              <a:endCxn id="68" idx="1"/>
            </p:cNvCxnSpPr>
            <p:nvPr/>
          </p:nvCxnSpPr>
          <p:spPr>
            <a:xfrm>
              <a:off x="3646440" y="1788840"/>
              <a:ext cx="232560" cy="38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77" idx="3"/>
              <a:endCxn id="69" idx="1"/>
            </p:cNvCxnSpPr>
            <p:nvPr/>
          </p:nvCxnSpPr>
          <p:spPr>
            <a:xfrm flipV="1">
              <a:off x="3646440" y="3088440"/>
              <a:ext cx="23256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77" idx="3"/>
              <a:endCxn id="70" idx="1"/>
            </p:cNvCxnSpPr>
            <p:nvPr/>
          </p:nvCxnSpPr>
          <p:spPr>
            <a:xfrm>
              <a:off x="3646440" y="3571560"/>
              <a:ext cx="23256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>
              <a:stCxn id="80" idx="3"/>
              <a:endCxn id="71" idx="1"/>
            </p:cNvCxnSpPr>
            <p:nvPr/>
          </p:nvCxnSpPr>
          <p:spPr>
            <a:xfrm flipV="1">
              <a:off x="3646440" y="4917240"/>
              <a:ext cx="2325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" name=""/>
            <p:cNvCxnSpPr>
              <a:stCxn id="80" idx="3"/>
              <a:endCxn id="72" idx="1"/>
            </p:cNvCxnSpPr>
            <p:nvPr/>
          </p:nvCxnSpPr>
          <p:spPr>
            <a:xfrm>
              <a:off x="3646440" y="5354280"/>
              <a:ext cx="232560" cy="47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82" name=""/>
          <p:cNvGrpSpPr/>
          <p:nvPr/>
        </p:nvGrpSpPr>
        <p:grpSpPr>
          <a:xfrm>
            <a:off x="5265360" y="852480"/>
            <a:ext cx="1827720" cy="5429160"/>
            <a:chOff x="5265360" y="852480"/>
            <a:chExt cx="1827720" cy="5429160"/>
          </a:xfrm>
        </p:grpSpPr>
        <p:sp>
          <p:nvSpPr>
            <p:cNvPr id="83" name=""/>
            <p:cNvSpPr/>
            <p:nvPr/>
          </p:nvSpPr>
          <p:spPr>
            <a:xfrm>
              <a:off x="5580000" y="85248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80000" y="132228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85" name=""/>
            <p:cNvCxnSpPr>
              <a:stCxn id="67" idx="3"/>
              <a:endCxn id="83" idx="1"/>
            </p:cNvCxnSpPr>
            <p:nvPr/>
          </p:nvCxnSpPr>
          <p:spPr>
            <a:xfrm flipV="1">
              <a:off x="5265360" y="1045800"/>
              <a:ext cx="305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>
              <a:stCxn id="67" idx="3"/>
              <a:endCxn id="84" idx="1"/>
            </p:cNvCxnSpPr>
            <p:nvPr/>
          </p:nvCxnSpPr>
          <p:spPr>
            <a:xfrm>
              <a:off x="5265360" y="1261800"/>
              <a:ext cx="30564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5580000" y="177156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0000" y="224172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89" name=""/>
            <p:cNvCxnSpPr>
              <a:endCxn id="87" idx="1"/>
            </p:cNvCxnSpPr>
            <p:nvPr/>
          </p:nvCxnSpPr>
          <p:spPr>
            <a:xfrm flipV="1">
              <a:off x="5265360" y="1964880"/>
              <a:ext cx="305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>
              <a:endCxn id="88" idx="1"/>
            </p:cNvCxnSpPr>
            <p:nvPr/>
          </p:nvCxnSpPr>
          <p:spPr>
            <a:xfrm>
              <a:off x="5265360" y="2181240"/>
              <a:ext cx="30564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5580000" y="267192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0000" y="314172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93" name=""/>
            <p:cNvCxnSpPr>
              <a:endCxn id="91" idx="1"/>
            </p:cNvCxnSpPr>
            <p:nvPr/>
          </p:nvCxnSpPr>
          <p:spPr>
            <a:xfrm flipV="1">
              <a:off x="5265360" y="2864880"/>
              <a:ext cx="30564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endCxn id="92" idx="1"/>
            </p:cNvCxnSpPr>
            <p:nvPr/>
          </p:nvCxnSpPr>
          <p:spPr>
            <a:xfrm>
              <a:off x="5265360" y="3081240"/>
              <a:ext cx="30564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5580000" y="360684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0000" y="407664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97" name=""/>
            <p:cNvCxnSpPr>
              <a:endCxn id="95" idx="1"/>
            </p:cNvCxnSpPr>
            <p:nvPr/>
          </p:nvCxnSpPr>
          <p:spPr>
            <a:xfrm flipV="1">
              <a:off x="5265360" y="3800160"/>
              <a:ext cx="305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endCxn id="96" idx="1"/>
            </p:cNvCxnSpPr>
            <p:nvPr/>
          </p:nvCxnSpPr>
          <p:spPr>
            <a:xfrm>
              <a:off x="5265360" y="4016160"/>
              <a:ext cx="30564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" name=""/>
            <p:cNvSpPr/>
            <p:nvPr/>
          </p:nvSpPr>
          <p:spPr>
            <a:xfrm>
              <a:off x="5580000" y="450684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0000" y="497664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01" name=""/>
            <p:cNvCxnSpPr>
              <a:endCxn id="99" idx="1"/>
            </p:cNvCxnSpPr>
            <p:nvPr/>
          </p:nvCxnSpPr>
          <p:spPr>
            <a:xfrm flipV="1">
              <a:off x="5265360" y="4700160"/>
              <a:ext cx="305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endCxn id="100" idx="1"/>
            </p:cNvCxnSpPr>
            <p:nvPr/>
          </p:nvCxnSpPr>
          <p:spPr>
            <a:xfrm>
              <a:off x="5265360" y="4916160"/>
              <a:ext cx="30564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" name=""/>
            <p:cNvSpPr/>
            <p:nvPr/>
          </p:nvSpPr>
          <p:spPr>
            <a:xfrm>
              <a:off x="5580000" y="544356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kie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0000" y="5913360"/>
              <a:ext cx="15130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ummies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05" name=""/>
            <p:cNvCxnSpPr>
              <a:endCxn id="103" idx="1"/>
            </p:cNvCxnSpPr>
            <p:nvPr/>
          </p:nvCxnSpPr>
          <p:spPr>
            <a:xfrm flipV="1">
              <a:off x="5265360" y="5636880"/>
              <a:ext cx="305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endCxn id="104" idx="1"/>
            </p:cNvCxnSpPr>
            <p:nvPr/>
          </p:nvCxnSpPr>
          <p:spPr>
            <a:xfrm>
              <a:off x="5265360" y="5852880"/>
              <a:ext cx="30564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1188720" y="1519200"/>
            <a:ext cx="2448360" cy="4086000"/>
            <a:chOff x="1188720" y="1519200"/>
            <a:chExt cx="2448360" cy="4086000"/>
          </a:xfrm>
        </p:grpSpPr>
        <p:sp>
          <p:nvSpPr>
            <p:cNvPr id="74" name=""/>
            <p:cNvSpPr/>
            <p:nvPr/>
          </p:nvSpPr>
          <p:spPr>
            <a:xfrm>
              <a:off x="2268360" y="1519200"/>
              <a:ext cx="1368720" cy="52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ilk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68360" y="3301920"/>
              <a:ext cx="1368720" cy="52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OJ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8360" y="5084640"/>
              <a:ext cx="1368720" cy="52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pple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08" name=""/>
            <p:cNvCxnSpPr>
              <a:stCxn id="74" idx="1"/>
            </p:cNvCxnSpPr>
            <p:nvPr/>
          </p:nvCxnSpPr>
          <p:spPr>
            <a:xfrm flipH="1">
              <a:off x="1188720" y="1789200"/>
              <a:ext cx="1070640" cy="178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77" idx="1"/>
            </p:cNvCxnSpPr>
            <p:nvPr/>
          </p:nvCxnSpPr>
          <p:spPr>
            <a:xfrm flipH="1">
              <a:off x="1188720" y="3571560"/>
              <a:ext cx="1070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80" idx="1"/>
            </p:cNvCxnSpPr>
            <p:nvPr/>
          </p:nvCxnSpPr>
          <p:spPr>
            <a:xfrm flipH="1" flipV="1">
              <a:off x="1188720" y="3573000"/>
              <a:ext cx="1070640" cy="178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Fundamental Counting Princip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 number of options for each choice to get number of comb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g. 4 shirts, 3 pairs of pa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900155585[1]"/>
          <p:cNvPicPr/>
          <p:nvPr/>
        </p:nvPicPr>
        <p:blipFill>
          <a:blip r:embed="rId1"/>
          <a:stretch/>
        </p:blipFill>
        <p:spPr>
          <a:xfrm>
            <a:off x="7128000" y="297000"/>
            <a:ext cx="17431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to pick one entrée, and 2 side orders. There are 4 entrées and 5 sides. How many meals are there to pick fro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You can pick the same side twic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assword is 4 letters followed by 3 digits (numbers). How many different passwords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User</cp:lastModifiedBy>
  <cp:lastPrinted>2002-10-02T17:02:09Z</cp:lastPrinted>
  <dcterms:modified xsi:type="dcterms:W3CDTF">2011-05-27T15:18:26Z</dcterms:modified>
  <cp:revision>324</cp:revision>
  <dc:subject/>
  <dc:title>No Slide Title</dc:title>
</cp:coreProperties>
</file>