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526716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6D4F7F-A6E3-458F-947E-2C0C50846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1D205D-E6C7-4EBB-853C-CCFE6A489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90756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90756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rcRect l="12118" t="0" r="0" b="0"/>
          <a:stretch/>
        </p:blipFill>
        <p:spPr>
          <a:xfrm>
            <a:off x="0" y="-1260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0"/>
          <p:cNvSpPr/>
          <p:nvPr/>
        </p:nvSpPr>
        <p:spPr>
          <a:xfrm>
            <a:off x="82080" y="655704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3"/>
          <a:srcRect l="12118" t="0" r="0" b="69234"/>
          <a:stretch/>
        </p:blipFill>
        <p:spPr>
          <a:xfrm>
            <a:off x="0" y="6632640"/>
            <a:ext cx="9144000" cy="2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arm Up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scoop sundaes comes with any two scoops of ice cream and your choice of topping. How many different sundaes can be made with 12 types of ice cream and 4 topp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nd is trying to pick songs to play at battle of the bands. They have to pick a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ng to play. Is thi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mu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ying to guess a 3 letter co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C900155585[1]"/>
          <p:cNvPicPr/>
          <p:nvPr/>
        </p:nvPicPr>
        <p:blipFill>
          <a:blip r:embed="rId1"/>
          <a:stretch/>
        </p:blipFill>
        <p:spPr>
          <a:xfrm>
            <a:off x="7164360" y="225360"/>
            <a:ext cx="1670040" cy="671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76720" y="1163520"/>
            <a:ext cx="3889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ying to guess which 2 students will be selected from a table of 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C900155585[1]"/>
          <p:cNvPicPr/>
          <p:nvPr/>
        </p:nvPicPr>
        <p:blipFill>
          <a:blip r:embed="rId1"/>
          <a:stretch/>
        </p:blipFill>
        <p:spPr>
          <a:xfrm>
            <a:off x="7164360" y="225360"/>
            <a:ext cx="1670040" cy="671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24360" y="1341360"/>
            <a:ext cx="3889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ying to guess which 2 students will be selected from a table of 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C900155585[1]"/>
          <p:cNvPicPr/>
          <p:nvPr/>
        </p:nvPicPr>
        <p:blipFill>
          <a:blip r:embed="rId1"/>
          <a:stretch/>
        </p:blipFill>
        <p:spPr>
          <a:xfrm>
            <a:off x="7164360" y="225360"/>
            <a:ext cx="1670040" cy="671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24360" y="1341360"/>
            <a:ext cx="3889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5 guesses at a code made up of 3 letters or numb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C900155585[1]"/>
          <p:cNvPicPr/>
          <p:nvPr/>
        </p:nvPicPr>
        <p:blipFill>
          <a:blip r:embed="rId1"/>
          <a:stretch/>
        </p:blipFill>
        <p:spPr>
          <a:xfrm>
            <a:off x="7164360" y="225360"/>
            <a:ext cx="1670040" cy="671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24360" y="1341360"/>
            <a:ext cx="3889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ying 5 tickets at a horse race trying to predict which horses will win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ut of 6 hors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ttle Bots come with 2 different bots per pack. There are 10 different bots in all. You buy a pack hoping it has your brother's favorite two. Probability it has them bo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900434713[1]"/>
          <p:cNvPicPr/>
          <p:nvPr/>
        </p:nvPicPr>
        <p:blipFill>
          <a:blip r:embed="rId1"/>
          <a:stretch/>
        </p:blipFill>
        <p:spPr>
          <a:xfrm>
            <a:off x="7812000" y="0"/>
            <a:ext cx="8589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ying 5 tickets at a horse race trying to predict which horses will win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ut of 6 hors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ttle Bots come with 2 different bots per pack. There are 10 different bots in all. You buy a pack hoping it has your brother's favorite two. Probability it has them bo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arm Up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wo-scoop sundaes comes with any two scoops of ice cream and your choice of topping. How many different sundaes can be made with 12 types of ice cream and 4 topp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and is trying to pick songs to play at battle of the bands. They have to pick a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ong to play. Is this 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mut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in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arm Up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view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amental Counting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peat – just multiply # of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 No repeats, order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66cc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 7  =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6 ways to pick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rom 8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repeats, order do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66cc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                 =              =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6 ways to pick a group of 3 from 8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11280" y="3112920"/>
            <a:ext cx="324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2044800" y="3127320"/>
            <a:ext cx="323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4292640"/>
            <a:ext cx="183528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∙ 7 ∙ 6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∙ 2 ∙ 1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1554120" y="4746600"/>
            <a:ext cx="324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2087640" y="4746600"/>
            <a:ext cx="323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2664000" y="4761000"/>
            <a:ext cx="323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4883040"/>
            <a:ext cx="16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4329000"/>
            <a:ext cx="104436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36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3637080" y="48704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79280" y="3392640"/>
            <a:ext cx="87854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ability using coun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MC900254364[1]"/>
          <p:cNvPicPr/>
          <p:nvPr/>
        </p:nvPicPr>
        <p:blipFill>
          <a:blip r:embed="rId1"/>
          <a:stretch/>
        </p:blipFill>
        <p:spPr>
          <a:xfrm>
            <a:off x="6084720" y="105264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rge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1630440" y="2023920"/>
            <a:ext cx="311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Verdana"/>
              </a:rPr>
              <a:t>10-8 part 2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bina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egon license plates have 3 digits followed by 3 let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ice officer gets a report of car that is being searched for. All that is known is that the plate starts with "17" and ends with "Z". Later that day he sees a car with the plate "174 BRZ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probability this is the car that he heard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bina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egon license plates have 3 digits followed by 3 let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lice officer gets a report of car that is being searched for. All that is known is that the plate starts with "17" and ends with "Z". Later that day he sees a car with the plate "174 BRZ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missing letters/numbers are there in the descri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choices are there to fill in the missing numbers? Let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cars are is he looking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C900434713[1]"/>
          <p:cNvPicPr/>
          <p:nvPr/>
        </p:nvPicPr>
        <p:blipFill>
          <a:blip r:embed="rId1"/>
          <a:stretch/>
        </p:blipFill>
        <p:spPr>
          <a:xfrm>
            <a:off x="7885080" y="115920"/>
            <a:ext cx="8589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babil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ys to get out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number of possible 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2889360"/>
            <a:ext cx="70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bina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missing letters/numbers are there in the descri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choices are there to fill in each bl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cars is he looking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7 __  __  __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User</cp:lastModifiedBy>
  <cp:lastPrinted>2002-10-02T17:02:09Z</cp:lastPrinted>
  <dcterms:modified xsi:type="dcterms:W3CDTF">2011-05-27T18:37:28Z</dcterms:modified>
  <cp:revision>328</cp:revision>
  <dc:subject/>
  <dc:title>No Slide Title</dc:title>
</cp:coreProperties>
</file>