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276F-9853-4AFA-B5B2-CB2B73B84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FCFD-1371-4009-8E3E-04A8D430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E980-054E-491E-9C1D-D83FACC59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610D-DB4A-4DC6-BDBF-331A385C6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7A74-F868-4F3C-87F7-00402D84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6D8C-74B7-4247-9753-BA367044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4F2B-ACF1-4BF5-A0D0-F52D9244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7713-1957-43FD-BFFB-1C65ED5B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74A9-6527-4638-B34F-FAB6FBE2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BABA-E47C-40F4-8F8D-19DBF367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0361-ECFC-4C7E-8D49-21A6759D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36CA-EFE7-4277-B534-F62C1518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6F50-43BE-46BC-B029-D950100C0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uffman Co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an Hayes -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robList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s an array of Charac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zes input file and sets the proportional values of all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ts out list contents: the symbols and their respective proportional values and Huffman re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TreeNode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s fields for TreeNode Obje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bability value of the TreeNode, the sym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uffman representation, the branches to the left and right of the node, and the number of steps taken to get to the node during Huffman tree co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ListNode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s a ListNode with two fields, a TreeNode used for construction of the Huffman tree, and the location of the next List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Queue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ilds list of ListNodes with TreeNode values based off of a provided Character ar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ts out list 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s the Node with the smallest value in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HuffmanEncoder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ffman method – does all of the method 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s the tree of Charac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ursively sets the Character Huffman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s an encoded String from the Huffman representations of the Charac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ding Explan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le most of the code is either self-explanatory, anything I felt needed some further explanations is in the comments next to the code of the actual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Next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the link to the Huffman Coding algorithm, observe their method of writing a decoding process that translates the encrypted String back to normal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dditional fun, translate the original text to other languages, and then examine the differences of the Characters’ probabilities and how the tree is bui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urpose of Huffman coding is to reduce large file sizes by reducing the amount of information necessary for data stora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does so by using a variable length encoding system. Common pieces of information are represented using fewer bits than uncommon 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ossless Data Compress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a link to a good site outlining and demonstrating the basic principles of Huffman 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uffman Coding Algorith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a site with java code for a Huffman coding program similar to my own but with some additional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uffman.ja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generates Huffman codes for files, shows visualization of the encoding tree p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uffman Encod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my Huffman coding project for use with BlueJ, comments give details about each method an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give an example, say we wanted to encode the String “aaaabbbcc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input: “aaaabbbcc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number of each letter: 4 a’s, 3 b’s, 2 c’s, 1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we want to save space, so letters that occur more often should be represented by les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what we do is take the letters that appear the least, and have them form the bottom of the tre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s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ing to combine the two least appearing letters eventually completes the tre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allows for the most often appearing letter to be represented by the least amount of data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bel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is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 is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 is 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 is 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191120" y="3584520"/>
            <a:ext cx="445752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remise for Huffman coding is fairly simple and can be summarized in the following ste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Read input in from a String or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Analyze input and store the proportional appearance of each sym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Find the symbols with the 2 smallest proportional values and assign them a value of 1 or a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 Combine the two lowest proportions into a new sum of the two propor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 Repeat steps 3 and 4 until only one values re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assignment of a 1 or 0 to whichever value (lowest or second lowest) you come across first is arbitrary and a matter of preference, any order will do and will not affect the overall mechanics of your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le Huffman coding is used to encrypt anything from text files to image files, my program simply reads in a text file (make sure the .txt file is stored in the directory) to encode and outputs the symbols, their proportional values and Huffman representations, prints out the encoded file as a String, and outputs the comparative file size of the new String and the previous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will give a brief overview and explanation of each class in the slides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ving 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a quick note, all slides beyond this point will pertain to my exampl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have a question from any of the following class descriptions and it is not answered in this PowerPoint, it is safe to assume it will be addressed in the notes I left in my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Character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s a new Object Chara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s up fields for the associated symbol, proportional value, and Huffman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9:44:57Z</dcterms:created>
  <dc:creator>User</dc:creator>
  <dc:description/>
  <dc:language>en-US</dc:language>
  <cp:lastModifiedBy>Andrew Scholer</cp:lastModifiedBy>
  <dcterms:modified xsi:type="dcterms:W3CDTF">2011-06-22T04:38:55Z</dcterms:modified>
  <cp:revision>12</cp:revision>
  <dc:subject/>
  <dc:title>Huffman Coding</dc:title>
</cp:coreProperties>
</file>